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3.wmf" ContentType="image/x-wmf"/>
  <Override PartName="/ppt/media/image2.gif" ContentType="image/gif"/>
  <Override PartName="/ppt/media/image8.wmf" ContentType="image/x-wmf"/>
  <Override PartName="/ppt/media/image7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.gif" ContentType="image/gif"/>
  <Override PartName="/ppt/media/image4.wmf" ContentType="image/x-wmf"/>
  <Override PartName="/ppt/media/image10.png" ContentType="image/png"/>
  <Override PartName="/ppt/media/image5.wmf" ContentType="image/x-wmf"/>
  <Override PartName="/ppt/media/image3.gif" ContentType="image/gif"/>
  <Override PartName="/ppt/media/image14.wmf" ContentType="image/x-wmf"/>
  <Override PartName="/ppt/media/image6.gif" ContentType="image/gif"/>
  <Override PartName="/ppt/media/image9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DB83-DF58-4E6D-B002-3C832C2A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6EDE-419C-4B81-AE3D-ED30AF9A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B74-A7CB-401F-8CA9-362FA6BF9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707-3547-4E8E-9C67-5BAEADB4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7EC3-C7F0-4E78-9567-73268A6E7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514-7B70-4294-84C9-79A47205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874-51FD-4EB5-837F-0F4E8DD1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598-C2DD-4B47-A207-CA7D27BE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B8ED-C066-4C8A-8979-8DD31FB7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ABC-AE02-477B-9909-1A85AAC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85FF-9E8D-4D25-AD09-0F4BE71C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834-AEF5-42C3-8585-0A6AB5D0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E26D-F4F3-416A-9C2A-9FDDA26CC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dia Ei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6956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5029200"/>
            <a:ext cx="1685880" cy="126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19320" y="838080"/>
            <a:ext cx="1981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jogge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 funfzehn minuten am Dienstag und Samst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1887480" cy="23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10080" y="3429000"/>
            <a:ext cx="27511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esse einen Apfel, M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öhren und die Bananen weil ich gesund bleib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1532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1600200" cy="1504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43400" y="2209680"/>
            <a:ext cx="3044880" cy="2249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352680" y="3809880"/>
            <a:ext cx="1554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trinke Wasser jeden tag und ich trinke nicht Cola denn ich fit hal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1447560" cy="280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19920" y="16002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733920" y="3809880"/>
            <a:ext cx="222084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idi Marie rauchen am Mittwoch und es ist nicht gut 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 deine Gesund.  Ich rauche ni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92468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995480" cy="1995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28800" y="3657600"/>
            <a:ext cx="19051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li essen Obst und Ge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jeden tag und sie Gymnastik mac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2163960" cy="244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1752480"/>
            <a:ext cx="1730160" cy="1297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648320" y="3276720"/>
            <a:ext cx="1809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darf Salat essen.  Ich mache Salat fur meine Familie jede woch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darf nicht trinken Alkohol. Ich trinke Alkohol wenn ich bin 21 jahr al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25876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22:07Z</dcterms:created>
  <dc:creator>CUSD220</dc:creator>
  <dc:description/>
  <dc:language>en-US</dc:language>
  <cp:lastModifiedBy>CUSD220</cp:lastModifiedBy>
  <dcterms:modified xsi:type="dcterms:W3CDTF">2012-02-24T18:25:20Z</dcterms:modified>
  <cp:revision>3</cp:revision>
  <dc:subject/>
  <dc:title>Gesund Leben</dc:title>
</cp:coreProperties>
</file>